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0875-A7C0-447E-A583-9B7E5A906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8AF1-636A-409B-A0A9-1895D3249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F291-509C-422C-A3EF-6B7DDF35B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49B-5C75-46B5-BC11-6BEA6792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1236-AD12-4EFA-AD61-8C1DFC20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3999-388F-4C76-8EDD-6C0C0307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D86-6515-4572-8A12-A3EE326E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DA20-A61A-4A3A-AFD8-465CCC90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4169-C9E1-4BAA-88DD-E25C783A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FA0-A5A6-4AC0-B90D-1E6EDC39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A21-BBDC-42DC-AD32-3C9FFC35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27A-3F27-49D9-B2B7-F77AE3E5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3CC-83F9-45C9-A00D-E1BC5FB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71D-479C-458E-843D-A062BB23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30E-4590-4D57-8164-71AF2FC0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24D9-2742-4290-8D27-801F210A1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320" y="33523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University of Bridg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F517-7E09-42DC-BEF3-040F1A0106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14400" y="30492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Introduction to ROBOTIC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cceleration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dot=-180+360*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Acceleration(deg/s2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"/>
              <p:cNvSpPr txBox="1"/>
              <p:nvPr/>
            </p:nvSpPr>
            <p:spPr>
              <a:xfrm>
                <a:off x="1446120" y="2681280"/>
                <a:ext cx="171468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60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8" name="Picture 6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2916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HW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 single link robot with a rotary joint is at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1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grees. It is desired to move the joint in a smooth manner to </a:t>
            </a:r>
            <a:r>
              <a:rPr b="1" i="1" lang="az-Cyrl-AZ" sz="2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7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ْ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3 sec. Find the coefficeints of a cubic to bring the manipulator to rest at the go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2286000" y="39625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617400" y="4724280"/>
                <a:ext cx="68914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sk is to take the end point of the RR robot from (0.5, 0.0, 0.0) to (0.5, 0.3, 0.0) in the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ame in a period of 5 seconds.  Assume the robot is at rest at the starting point and should come to come to a complete stop at the final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Given the 6 constraints: (n=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4"/>
              <p:cNvSpPr txBox="1"/>
              <p:nvPr/>
            </p:nvSpPr>
            <p:spPr>
              <a:xfrm>
                <a:off x="990720" y="2362320"/>
                <a:ext cx="6629400" cy="25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initial position , velocity and acceleration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,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nd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, velocity and accelera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Quint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6 coefficients (6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2286000" y="3583080"/>
                <a:ext cx="3200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5"/>
              <p:cNvSpPr txBox="1"/>
              <p:nvPr/>
            </p:nvSpPr>
            <p:spPr>
              <a:xfrm>
                <a:off x="1994040" y="4724280"/>
                <a:ext cx="37083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033640" y="5638680"/>
                <a:ext cx="33526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¨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6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aut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10"/>
              <p:cNvSpPr txBox="1"/>
              <p:nvPr/>
            </p:nvSpPr>
            <p:spPr>
              <a:xfrm>
                <a:off x="1143000" y="2743200"/>
                <a:ext cx="4419720" cy="28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5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5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914400" y="2209680"/>
                <a:ext cx="6524640" cy="39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4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5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q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six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4"/>
              <p:cNvSpPr txBox="1"/>
              <p:nvPr/>
            </p:nvSpPr>
            <p:spPr>
              <a:xfrm>
                <a:off x="779400" y="2435400"/>
                <a:ext cx="6794640" cy="34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5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  <m:e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5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3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4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t xml:space="preserve">5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4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6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  <m:sSub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  <m:sup>
                                      <m:r>
                                        <m:t xml:space="preserve">3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Linear segments with parabolic b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e want the middle part of the trajectory to have a constant velocity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up to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seg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mp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untitled"/>
          <p:cNvPicPr/>
          <p:nvPr/>
        </p:nvPicPr>
        <p:blipFill>
          <a:blip r:embed="rId1"/>
          <a:stretch/>
        </p:blipFill>
        <p:spPr>
          <a:xfrm>
            <a:off x="3962520" y="2819520"/>
            <a:ext cx="48196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jectory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rajectory is a function of tim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) s.t.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nd 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=q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-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: time taken to execute the traj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Point to point motion: plan 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jectory from the initial configura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final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q(t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In some cases, there may be constraints (for example: if the robot must begin and end with zero veloc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oose the trajectory of polynomial of degree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if you hav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nstrai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(1):Given the 4 constraints: (n=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295280" y="3657600"/>
                <a:ext cx="472464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</m:eqAr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start time       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the end time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are the initial position and velocity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nd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he final position and velocit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Cubic Traj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4 coefficients (4 constra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efine the trajectory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q(t)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to be a polynomial of degree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</a:rPr>
              <a:t>The desired 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2286000" y="3505320"/>
                <a:ext cx="3200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7"/>
              <p:cNvSpPr txBox="1"/>
              <p:nvPr/>
            </p:nvSpPr>
            <p:spPr>
              <a:xfrm>
                <a:off x="2317680" y="4952880"/>
                <a:ext cx="2373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valuation of the </a:t>
            </a:r>
            <a:r>
              <a:rPr b="1" i="1" lang="en-IE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IE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coeff to satify the const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2895480" y="2133720"/>
                <a:ext cx="18288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1157400" y="4800600"/>
                <a:ext cx="51116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8"/>
              <p:cNvSpPr txBox="1"/>
              <p:nvPr/>
            </p:nvSpPr>
            <p:spPr>
              <a:xfrm>
                <a:off x="2057400" y="4114800"/>
                <a:ext cx="25909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{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1"/>
              <p:cNvSpPr txBox="1"/>
              <p:nvPr/>
            </p:nvSpPr>
            <p:spPr>
              <a:xfrm>
                <a:off x="1295280" y="2743200"/>
                <a:ext cx="490068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mbined the four equations into a single matrix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7"/>
              <p:cNvSpPr txBox="1"/>
              <p:nvPr/>
            </p:nvSpPr>
            <p:spPr>
              <a:xfrm>
                <a:off x="1219320" y="2819520"/>
                <a:ext cx="451008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  <m:e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3</m:t>
                              </m:r>
                              <m:sSubSup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990720" y="3200400"/>
                <a:ext cx="172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533520" y="2286000"/>
                <a:ext cx="7059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deg/sec, 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14"/>
              <p:cNvSpPr txBox="1"/>
              <p:nvPr/>
            </p:nvSpPr>
            <p:spPr>
              <a:xfrm>
                <a:off x="3962520" y="3200400"/>
                <a:ext cx="18288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7"/>
              <p:cNvSpPr txBox="1"/>
              <p:nvPr/>
            </p:nvSpPr>
            <p:spPr>
              <a:xfrm>
                <a:off x="914400" y="4343400"/>
                <a:ext cx="2158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8"/>
              <p:cNvSpPr txBox="1"/>
              <p:nvPr/>
            </p:nvSpPr>
            <p:spPr>
              <a:xfrm>
                <a:off x="1143000" y="4876920"/>
                <a:ext cx="31575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=10-90*t^2+60*t^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'Angle(deg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447920" y="2362320"/>
                <a:ext cx="20574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0" name="Picture 5" descr="untitled"/>
          <p:cNvPicPr/>
          <p:nvPr/>
        </p:nvPicPr>
        <p:blipFill>
          <a:blip r:embed="rId1"/>
          <a:stretch/>
        </p:blipFill>
        <p:spPr>
          <a:xfrm>
            <a:off x="4038480" y="2666880"/>
            <a:ext cx="454356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000000"/>
                </a:solidFill>
                <a:latin typeface="Arial"/>
              </a:rPr>
              <a:t>Point to point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elocity profile for cubic polynomial traj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lab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qdot=-180*t+180*t^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=[0:0.01:1]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ot(t,subs(qdot,t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xlabel('Time sec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ylabel(’velocity(deg/s)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4"/>
              <p:cNvSpPr txBox="1"/>
              <p:nvPr/>
            </p:nvSpPr>
            <p:spPr>
              <a:xfrm>
                <a:off x="1527120" y="2362320"/>
                <a:ext cx="1898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q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4" name="Picture 8" descr="untitled"/>
          <p:cNvPicPr/>
          <p:nvPr/>
        </p:nvPicPr>
        <p:blipFill>
          <a:blip r:embed="rId1"/>
          <a:stretch/>
        </p:blipFill>
        <p:spPr>
          <a:xfrm>
            <a:off x="3962520" y="2666880"/>
            <a:ext cx="455760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yssam</cp:lastModifiedBy>
  <dcterms:modified xsi:type="dcterms:W3CDTF">2008-04-13T00:17:25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